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423360" y="1243080"/>
            <a:ext cx="5961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912-23A1-4C6B-AFD6-7ADB4E87EEE4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Permite evaluar la formalidad de presentación de revistas científicas y académ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92E-12D5-407A-B8BF-18B0E27AC845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78F-374C-43CA-9E75-A0FC43EF45B0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número de diapositiva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EF20-4A5D-4762-8E99-124286E3ACFB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3FC-650E-490C-B5FA-DCAEA299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2A0-FD6C-40FA-9CC0-CBCA7068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CA2-551A-4C19-B986-807D7C34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CE2-A374-4236-8360-1F78EA21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B1498-7198-4D02-B619-F5BC1D8FC7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43AA4-C77B-4649-90DE-93E79D317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24A1B-EBB7-4265-AA13-0355593BA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4B79D-1AF3-482E-951C-177F229B2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A993D-1A68-4E26-A00E-BF08226AC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77D52-02B4-44B0-9249-791F31D34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F6C46-DDA5-439A-99BF-C25B2C8C5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13F-B309-4209-B941-4285A0F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57AC3-3B22-43A2-AD53-0BE03765C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2D2A1-FBA0-4DC3-A1D3-CB8E06223F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AE575-EF94-4BB8-9A99-CF3218B6E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947AF-DCB8-4A9A-BC77-AB22BD9153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5B4B3-978C-4E6F-840B-208034D15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412-9ECA-4409-90C6-A5D2C0C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F09-7CD8-458C-BD02-356F1719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019-290C-4525-BF5A-D1CE8809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4E6-9C16-46E8-BFB4-3E27DBA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084-6A26-4D17-BFE4-3D8B841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78E-994E-41EC-A467-B926841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901-FAD1-43A7-93C4-4EF58B5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4B8F-FDC2-4114-A9CD-26585C77887F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F3E1-DA31-4D55-A0A2-B4B4F8A2CE7A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ángulo 1"/>
          <p:cNvSpPr/>
          <p:nvPr/>
        </p:nvSpPr>
        <p:spPr>
          <a:xfrm>
            <a:off x="1122480" y="2887560"/>
            <a:ext cx="10572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ffffff"/>
                </a:solidFill>
                <a:latin typeface="Arial"/>
                <a:ea typeface="Arial"/>
              </a:rPr>
              <a:t>Latindex y SciELO-Ecuador: Experiencias e importa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6062760" y="550872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Quito, 27 de junio de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 redondeado"/>
          <p:cNvSpPr/>
          <p:nvPr/>
        </p:nvSpPr>
        <p:spPr>
          <a:xfrm>
            <a:off x="252360" y="3821040"/>
            <a:ext cx="5229360" cy="128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cepción del conocimiento científico como bien públ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Trabajo en 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ineamiento al estado del arte de la comunicación científica: adopción de estándares y buenas prácticas de publicación científica, tendencias e innov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Rectángulo redondeado"/>
          <p:cNvSpPr/>
          <p:nvPr/>
        </p:nvSpPr>
        <p:spPr>
          <a:xfrm>
            <a:off x="252360" y="1728720"/>
            <a:ext cx="5229360" cy="11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tribuir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 avance de la investigación científica generada en los países Iberolatinoamericanos, al mejorar de la calidad de  sus revistas y aumentar su difusión, visibilidad, accesibilidad, uso e impac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787040" y="12114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Objetivo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15 Conector curvado"/>
          <p:cNvCxnSpPr/>
          <p:nvPr/>
        </p:nvCxnSpPr>
        <p:spPr>
          <a:xfrm flipV="1" rot="10800000">
            <a:off x="983520" y="2880360"/>
            <a:ext cx="1801080" cy="664200"/>
          </a:xfrm>
          <a:prstGeom prst="curvedConnector5">
            <a:avLst>
              <a:gd name="adj1" fmla="val 141523"/>
              <a:gd name="adj2" fmla="val 50000"/>
              <a:gd name="adj3" fmla="val 141523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3" name="17 CuadroTexto"/>
          <p:cNvSpPr/>
          <p:nvPr/>
        </p:nvSpPr>
        <p:spPr>
          <a:xfrm>
            <a:off x="871560" y="33940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Princip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23 Conector curvado"/>
          <p:cNvCxnSpPr/>
          <p:nvPr/>
        </p:nvCxnSpPr>
        <p:spPr>
          <a:xfrm>
            <a:off x="1828440" y="546120"/>
            <a:ext cx="956520" cy="851760"/>
          </a:xfrm>
          <a:prstGeom prst="curvedConnector5">
            <a:avLst>
              <a:gd name="adj1" fmla="val 189118"/>
              <a:gd name="adj2" fmla="val 49978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5" name="5 CuadroTexto"/>
          <p:cNvSpPr/>
          <p:nvPr/>
        </p:nvSpPr>
        <p:spPr>
          <a:xfrm>
            <a:off x="148680" y="19224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Sci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 Rectángulo"/>
          <p:cNvSpPr/>
          <p:nvPr/>
        </p:nvSpPr>
        <p:spPr>
          <a:xfrm>
            <a:off x="157320" y="5237280"/>
            <a:ext cx="56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Calibri"/>
              </a:rPr>
              <a:t>La importancia de SciELO está en directa relación con el mejoramiento de la calidad de las revistas (exportar ciencia de calidad producida en español y portugué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 CuadroTexto"/>
          <p:cNvSpPr/>
          <p:nvPr/>
        </p:nvSpPr>
        <p:spPr>
          <a:xfrm>
            <a:off x="9173520" y="20484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LAT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Rectángulo redondeado"/>
          <p:cNvSpPr/>
          <p:nvPr/>
        </p:nvSpPr>
        <p:spPr>
          <a:xfrm>
            <a:off x="6797520" y="1397160"/>
            <a:ext cx="5229360" cy="104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A partir del año 2006, la Senescyt opera como el Centro de Acopio Nacional del Sistema Regional de Información en Línea para Revistas Científicas de América Latina, el Caribe, España y Portugal-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</a:t>
            </a:r>
            <a:r>
              <a:rPr b="0" i="1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EX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Rectángulo redondeado"/>
          <p:cNvSpPr/>
          <p:nvPr/>
        </p:nvSpPr>
        <p:spPr>
          <a:xfrm>
            <a:off x="6751800" y="3575160"/>
            <a:ext cx="5229000" cy="128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EX funciona como un compendio de buenas prácticas editoriales cuyo reto es que estas sean aplicables a revistas con diferentes objetivos (investigación, técnicas y de divulgación), de diferentes disciplinas y en países que tienen también distintos grados de desarrollo económico, científico y soc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15 Conector curvado"/>
          <p:cNvCxnSpPr/>
          <p:nvPr/>
        </p:nvCxnSpPr>
        <p:spPr>
          <a:xfrm flipV="1" rot="10800000">
            <a:off x="7428960" y="638640"/>
            <a:ext cx="1800720" cy="664200"/>
          </a:xfrm>
          <a:prstGeom prst="curvedConnector5">
            <a:avLst>
              <a:gd name="adj1" fmla="val 141531"/>
              <a:gd name="adj2" fmla="val 50000"/>
              <a:gd name="adj3" fmla="val 141531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cxnSp>
        <p:nvCxnSpPr>
          <p:cNvPr id="101" name="23 Conector curvado"/>
          <p:cNvCxnSpPr/>
          <p:nvPr/>
        </p:nvCxnSpPr>
        <p:spPr>
          <a:xfrm>
            <a:off x="9672120" y="2525400"/>
            <a:ext cx="956520" cy="851400"/>
          </a:xfrm>
          <a:prstGeom prst="curvedConnector5">
            <a:avLst>
              <a:gd name="adj1" fmla="val 189118"/>
              <a:gd name="adj2" fmla="val 50000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102" name="7 CuadroTexto"/>
          <p:cNvSpPr/>
          <p:nvPr/>
        </p:nvSpPr>
        <p:spPr>
          <a:xfrm>
            <a:off x="9610920" y="31478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Qué e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141120" y="130320"/>
            <a:ext cx="5991480" cy="5205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METODOLOGÍ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a 7" descr=""/>
          <p:cNvPicPr/>
          <p:nvPr/>
        </p:nvPicPr>
        <p:blipFill>
          <a:blip r:embed="rId1"/>
          <a:stretch/>
        </p:blipFill>
        <p:spPr>
          <a:xfrm>
            <a:off x="6284880" y="231840"/>
            <a:ext cx="5797440" cy="2554200"/>
          </a:xfrm>
          <a:prstGeom prst="rect">
            <a:avLst/>
          </a:prstGeom>
          <a:ln w="0">
            <a:noFill/>
          </a:ln>
        </p:spPr>
      </p:pic>
      <p:pic>
        <p:nvPicPr>
          <p:cNvPr id="105" name="3 Diagrama" descr=""/>
          <p:cNvPicPr/>
          <p:nvPr/>
        </p:nvPicPr>
        <p:blipFill>
          <a:blip r:embed="rId2"/>
          <a:stretch/>
        </p:blipFill>
        <p:spPr>
          <a:xfrm>
            <a:off x="4737240" y="2786040"/>
            <a:ext cx="7534080" cy="3859200"/>
          </a:xfrm>
          <a:prstGeom prst="rect">
            <a:avLst/>
          </a:prstGeom>
          <a:ln w="0">
            <a:noFill/>
          </a:ln>
        </p:spPr>
      </p:pic>
      <p:grpSp>
        <p:nvGrpSpPr>
          <p:cNvPr id="106" name="4 Grupo"/>
          <p:cNvGrpSpPr/>
          <p:nvPr/>
        </p:nvGrpSpPr>
        <p:grpSpPr>
          <a:xfrm>
            <a:off x="9402840" y="4013280"/>
            <a:ext cx="1166760" cy="2633760"/>
            <a:chOff x="9402840" y="4013280"/>
            <a:chExt cx="1166760" cy="2633760"/>
          </a:xfrm>
        </p:grpSpPr>
        <p:sp>
          <p:nvSpPr>
            <p:cNvPr id="107" name="5 Rectángulo redondeado"/>
            <p:cNvSpPr/>
            <p:nvPr/>
          </p:nvSpPr>
          <p:spPr>
            <a:xfrm>
              <a:off x="9402840" y="4013280"/>
              <a:ext cx="1166760" cy="2633760"/>
            </a:xfrm>
            <a:custGeom>
              <a:avLst/>
              <a:gdLst>
                <a:gd name="textAreaLeft" fmla="*/ 33840 w 1166760"/>
                <a:gd name="textAreaRight" fmla="*/ 1132920 w 1166760"/>
                <a:gd name="textAreaTop" fmla="*/ 33840 h 2633760"/>
                <a:gd name="textAreaBottom" fmla="*/ 2599920 h 2633760"/>
              </a:gdLst>
              <a:ahLst/>
              <a:rect l="textAreaLeft" t="textAreaTop" r="textAreaRight" b="textAreaBottom"/>
              <a:pathLst>
                <a:path w="21600" h="48750">
                  <a:moveTo>
                    <a:pt x="2160" y="0"/>
                  </a:moveTo>
                  <a:arcTo wR="2160" hR="2160" stAng="16200000" swAng="-5400000"/>
                  <a:lnTo>
                    <a:pt x="0" y="46590"/>
                  </a:lnTo>
                  <a:arcTo wR="2160" hR="2160" stAng="10800000" swAng="-5400000"/>
                  <a:lnTo>
                    <a:pt x="19440" y="4875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6 Rectángulo"/>
            <p:cNvSpPr/>
            <p:nvPr/>
          </p:nvSpPr>
          <p:spPr>
            <a:xfrm>
              <a:off x="9435960" y="4089240"/>
              <a:ext cx="1100160" cy="24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8 criterios ligados a la calidad  científica de la revista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4 Grupo"/>
          <p:cNvGrpSpPr/>
          <p:nvPr/>
        </p:nvGrpSpPr>
        <p:grpSpPr>
          <a:xfrm>
            <a:off x="10858680" y="4052880"/>
            <a:ext cx="1225440" cy="2594160"/>
            <a:chOff x="10858680" y="4052880"/>
            <a:chExt cx="1225440" cy="2594160"/>
          </a:xfrm>
        </p:grpSpPr>
        <p:sp>
          <p:nvSpPr>
            <p:cNvPr id="110" name="5 Rectángulo redondeado"/>
            <p:cNvSpPr/>
            <p:nvPr/>
          </p:nvSpPr>
          <p:spPr>
            <a:xfrm>
              <a:off x="10858680" y="4052880"/>
              <a:ext cx="1225440" cy="2594160"/>
            </a:xfrm>
            <a:custGeom>
              <a:avLst/>
              <a:gdLst>
                <a:gd name="textAreaLeft" fmla="*/ 35640 w 1225440"/>
                <a:gd name="textAreaRight" fmla="*/ 1189800 w 1225440"/>
                <a:gd name="textAreaTop" fmla="*/ 35640 h 2594160"/>
                <a:gd name="textAreaBottom" fmla="*/ 2558520 h 2594160"/>
              </a:gdLst>
              <a:ahLst/>
              <a:rect l="textAreaLeft" t="textAreaTop" r="textAreaRight" b="textAreaBottom"/>
              <a:pathLst>
                <a:path w="21600" h="45718">
                  <a:moveTo>
                    <a:pt x="2160" y="0"/>
                  </a:moveTo>
                  <a:arcTo wR="2160" hR="2160" stAng="16200000" swAng="-5400000"/>
                  <a:lnTo>
                    <a:pt x="0" y="43558"/>
                  </a:lnTo>
                  <a:arcTo wR="2160" hR="2160" stAng="10800000" swAng="-5400000"/>
                  <a:lnTo>
                    <a:pt x="19440" y="4571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6 Rectángulo"/>
            <p:cNvSpPr/>
            <p:nvPr/>
          </p:nvSpPr>
          <p:spPr>
            <a:xfrm>
              <a:off x="10893600" y="4128840"/>
              <a:ext cx="1155600" cy="24418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5 criterios ligados al desempeño de la revista dentro de la colecció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ángulo 1"/>
          <p:cNvSpPr/>
          <p:nvPr/>
        </p:nvSpPr>
        <p:spPr>
          <a:xfrm>
            <a:off x="4703040" y="1428840"/>
            <a:ext cx="164088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ciELO-Ecu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a 19" descr=""/>
          <p:cNvPicPr/>
          <p:nvPr/>
        </p:nvPicPr>
        <p:blipFill>
          <a:blip r:embed="rId3"/>
          <a:stretch/>
        </p:blipFill>
        <p:spPr>
          <a:xfrm>
            <a:off x="255600" y="1951200"/>
            <a:ext cx="3560760" cy="20602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a 20" descr=""/>
          <p:cNvPicPr/>
          <p:nvPr/>
        </p:nvPicPr>
        <p:blipFill>
          <a:blip r:embed="rId4"/>
          <a:stretch/>
        </p:blipFill>
        <p:spPr>
          <a:xfrm>
            <a:off x="49320" y="4376880"/>
            <a:ext cx="413208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21"/>
          <p:cNvSpPr/>
          <p:nvPr/>
        </p:nvSpPr>
        <p:spPr>
          <a:xfrm>
            <a:off x="649440" y="1158840"/>
            <a:ext cx="98856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Lat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 Diagrama" descr=""/>
          <p:cNvPicPr/>
          <p:nvPr/>
        </p:nvPicPr>
        <p:blipFill>
          <a:blip r:embed="rId1"/>
          <a:stretch/>
        </p:blipFill>
        <p:spPr>
          <a:xfrm>
            <a:off x="523800" y="1274760"/>
            <a:ext cx="11277720" cy="5370480"/>
          </a:xfrm>
          <a:prstGeom prst="rect">
            <a:avLst/>
          </a:prstGeom>
          <a:ln w="0">
            <a:noFill/>
          </a:ln>
        </p:spPr>
      </p:pic>
      <p:sp>
        <p:nvSpPr>
          <p:cNvPr id="117" name="6 CuadroTexto"/>
          <p:cNvSpPr/>
          <p:nvPr/>
        </p:nvSpPr>
        <p:spPr>
          <a:xfrm>
            <a:off x="2414520" y="322200"/>
            <a:ext cx="6942240" cy="8859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COLECCIÓN NACIONAL SciELO-Ecuad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IMPORTA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egualoto\AppData\Local\Microsoft\Windows\Temporary Internet Files\Content.Outlook\280NSAJ7\scieloEcuador transparente.png"/>
          <p:cNvPicPr/>
          <p:nvPr/>
        </p:nvPicPr>
        <p:blipFill>
          <a:blip r:embed="rId2"/>
          <a:stretch/>
        </p:blipFill>
        <p:spPr>
          <a:xfrm>
            <a:off x="139680" y="19080"/>
            <a:ext cx="1467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iagrama 9" descr=""/>
          <p:cNvPicPr/>
          <p:nvPr/>
        </p:nvPicPr>
        <p:blipFill>
          <a:blip r:embed="rId1"/>
          <a:stretch/>
        </p:blipFill>
        <p:spPr>
          <a:xfrm>
            <a:off x="871560" y="646200"/>
            <a:ext cx="1107108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11 CuadroTexto" descr=""/>
          <p:cNvPicPr/>
          <p:nvPr/>
        </p:nvPicPr>
        <p:blipFill>
          <a:blip r:embed="rId2"/>
          <a:stretch/>
        </p:blipFill>
        <p:spPr>
          <a:xfrm>
            <a:off x="487440" y="974880"/>
            <a:ext cx="46332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Diagrama 1" descr=""/>
          <p:cNvPicPr/>
          <p:nvPr/>
        </p:nvPicPr>
        <p:blipFill>
          <a:blip r:embed="rId3"/>
          <a:stretch/>
        </p:blipFill>
        <p:spPr>
          <a:xfrm>
            <a:off x="865080" y="3151080"/>
            <a:ext cx="11041200" cy="2773440"/>
          </a:xfrm>
          <a:prstGeom prst="rect">
            <a:avLst/>
          </a:prstGeom>
          <a:ln w="0">
            <a:noFill/>
          </a:ln>
        </p:spPr>
      </p:pic>
      <p:pic>
        <p:nvPicPr>
          <p:cNvPr id="122" name="11 CuadroTexto" descr=""/>
          <p:cNvPicPr/>
          <p:nvPr/>
        </p:nvPicPr>
        <p:blipFill>
          <a:blip r:embed="rId4"/>
          <a:stretch/>
        </p:blipFill>
        <p:spPr>
          <a:xfrm>
            <a:off x="426960" y="3371760"/>
            <a:ext cx="579600" cy="2475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555480" y="225360"/>
            <a:ext cx="657396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Calibri"/>
              </a:rPr>
              <a:t>ESTADO ACTUAL - RESULTA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282840" y="2889360"/>
            <a:ext cx="56260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22:35:46Z</dcterms:created>
  <dc:creator>Usuario de Microsoft Office</dc:creator>
  <dc:description/>
  <dc:language>en-US</dc:language>
  <cp:lastModifiedBy>Cristina Ruiz del Ferrier</cp:lastModifiedBy>
  <cp:lastPrinted>2018-06-13T22:03:34Z</cp:lastPrinted>
  <dcterms:modified xsi:type="dcterms:W3CDTF">2019-07-22T13:58:58Z</dcterms:modified>
  <cp:revision>384</cp:revision>
  <dc:subject/>
  <dc:title>Presentación de PowerPoint</dc:title>
</cp:coreProperties>
</file>